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B03-3582-454D-BC5D-B1DED8FE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551-2E7E-4971-928A-D2EE6123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0C61-30D6-4F96-B03C-EE25004F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F7B-2514-46AB-B08E-ADBB0C5A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BD0-68BB-4EAB-B17C-B53C62D0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6C9-FC8B-48FA-8073-2796DE66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D94-B215-43DF-89A9-04DE610B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250-C71D-4AE1-8459-0546C98C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ED4-73E5-451C-906C-6D3C266B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BCA-9E23-47DD-8277-B7DBA18F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368-20E4-471F-BE20-98503A9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D27-12B8-41F9-905D-A7BD662F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30B-DA5A-46F1-B0DA-E6719F0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FE4-BC3D-4AC3-94DC-9DC8A81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07E-0C4C-4802-B5B0-9F16892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E4E-BCF5-45FA-975B-5117FB0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895E-324A-49D0-B955-B5CCDB9C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129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457200" y="762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3176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3580920" y="5105520"/>
            <a:ext cx="2362680" cy="1371600"/>
            <a:chOff x="3580920" y="5105520"/>
            <a:chExt cx="2362680" cy="1371600"/>
          </a:xfrm>
        </p:grpSpPr>
        <p:pic>
          <p:nvPicPr>
            <p:cNvPr id="56" name="Picture 23" descr=""/>
            <p:cNvPicPr/>
            <p:nvPr/>
          </p:nvPicPr>
          <p:blipFill>
            <a:blip r:embed="rId2"/>
            <a:stretch/>
          </p:blipFill>
          <p:spPr>
            <a:xfrm>
              <a:off x="3581280" y="5105520"/>
              <a:ext cx="2325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Line 24"/>
            <p:cNvSpPr/>
            <p:nvPr/>
          </p:nvSpPr>
          <p:spPr>
            <a:xfrm>
              <a:off x="4741920" y="6301440"/>
              <a:ext cx="12016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 flipH="1" flipV="1">
              <a:off x="3580920" y="5965200"/>
              <a:ext cx="1181160" cy="335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0" y="5105520"/>
            <a:ext cx="216684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838080" y="167652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DSC03288.JPG"/>
          <p:cNvPicPr/>
          <p:nvPr/>
        </p:nvPicPr>
        <p:blipFill>
          <a:blip r:embed="rId4"/>
          <a:stretch/>
        </p:blipFill>
        <p:spPr>
          <a:xfrm>
            <a:off x="4572000" y="1828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80880" y="1522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assify each angle as acute, right, or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9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591840" y="2286000"/>
            <a:ext cx="13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567000" y="3227400"/>
            <a:ext cx="15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457200" y="4724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in the interior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K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2°, and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M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°. Find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M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958680" y="5715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2469600" y="231300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2532960" y="317196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105200" y="281952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609480" y="35211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 protractor to draw an angle with a measure of 16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7"/>
          <p:cNvGrpSpPr/>
          <p:nvPr/>
        </p:nvGrpSpPr>
        <p:grpSpPr>
          <a:xfrm>
            <a:off x="609480" y="1600200"/>
            <a:ext cx="7772400" cy="1194120"/>
            <a:chOff x="609480" y="1600200"/>
            <a:chExt cx="7772400" cy="1194120"/>
          </a:xfrm>
        </p:grpSpPr>
        <p:sp>
          <p:nvSpPr>
            <p:cNvPr id="75" name="Rectangle 18"/>
            <p:cNvSpPr/>
            <p:nvPr/>
          </p:nvSpPr>
          <p:spPr>
            <a:xfrm>
              <a:off x="609480" y="1676520"/>
              <a:ext cx="7772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46512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D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isect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D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             ,  and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D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)°. Find 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9" descr="1"/>
            <p:cNvPicPr/>
            <p:nvPr/>
          </p:nvPicPr>
          <p:blipFill>
            <a:blip r:embed="rId1"/>
            <a:stretch/>
          </p:blipFill>
          <p:spPr>
            <a:xfrm>
              <a:off x="5486400" y="1600200"/>
              <a:ext cx="1609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Line 21"/>
            <p:cNvSpPr/>
            <p:nvPr/>
          </p:nvSpPr>
          <p:spPr>
            <a:xfrm>
              <a:off x="1143000" y="1871640"/>
              <a:ext cx="51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6"/>
          <p:cNvGrpSpPr/>
          <p:nvPr/>
        </p:nvGrpSpPr>
        <p:grpSpPr>
          <a:xfrm>
            <a:off x="2438280" y="4419720"/>
            <a:ext cx="3657600" cy="2009520"/>
            <a:chOff x="2438280" y="4419720"/>
            <a:chExt cx="3657600" cy="2009520"/>
          </a:xfrm>
        </p:grpSpPr>
        <p:pic>
          <p:nvPicPr>
            <p:cNvPr id="79" name="Picture 23" descr=""/>
            <p:cNvPicPr/>
            <p:nvPr/>
          </p:nvPicPr>
          <p:blipFill>
            <a:blip r:embed="rId2"/>
            <a:stretch/>
          </p:blipFill>
          <p:spPr>
            <a:xfrm>
              <a:off x="2438280" y="4419720"/>
              <a:ext cx="360072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Line 24"/>
            <p:cNvSpPr/>
            <p:nvPr/>
          </p:nvSpPr>
          <p:spPr>
            <a:xfrm>
              <a:off x="4235400" y="6172200"/>
              <a:ext cx="1860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 flipH="1" flipV="1">
              <a:off x="2438280" y="5679720"/>
              <a:ext cx="1828800" cy="49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28600" y="17524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YZ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)°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W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)°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928040" y="3706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3400560" cy="21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teacher</cp:lastModifiedBy>
  <dcterms:modified xsi:type="dcterms:W3CDTF">2009-06-29T04:00:55Z</dcterms:modified>
  <cp:revision>44</cp:revision>
  <dc:subject/>
  <dc:title>Slide 1</dc:title>
</cp:coreProperties>
</file>